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F72-2EFE-41EB-B6C2-C56C6C83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D22-079D-49B8-BEF9-71D3D8CE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B85-AF68-41DF-98DA-ED2FCCAA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19E-3DC9-44A8-8242-EAB465D2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3D1-C050-47C5-8D77-CCF5C8B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E03-3CE1-46B0-9114-8E2300F1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243-B9F7-46CF-96BC-629F4F7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D4E-1041-4B1D-9D34-576D5059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F9A-5B37-4720-B843-D81C9FF9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A32-F8F1-4ECB-B030-1EE185F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6AA-D5BF-4610-8E40-12033E0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8F1-7E64-47AB-83C6-631F423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chite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chite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chite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chite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chite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chite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5B2-5FDF-48FE-87E3-F32AD10954CD}" type="slidenum">
              <a:rPr b="0" lang="en-US" sz="1400" spc="-1" strike="noStrike">
                <a:solidFill>
                  <a:srgbClr val="000000"/>
                </a:solidFill>
                <a:latin typeface="Archite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" action="ppaction://hlinksldjump"/>
              </a:rPr>
              <a:t>Student 6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2" action="ppaction://hlinksldjump"/>
              </a:rPr>
              <a:t>Student 1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8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2286000" cy="987480"/>
          </a:xfrm>
          <a:custGeom>
            <a:avLst/>
            <a:gdLst>
              <a:gd name="textAreaLeft" fmla="*/ 63720 w 2286000"/>
              <a:gd name="textAreaRight" fmla="*/ 2222280 w 2286000"/>
              <a:gd name="textAreaTop" fmla="*/ 63720 h 987480"/>
              <a:gd name="textAreaBottom" fmla="*/ 923760 h 987480"/>
            </a:gdLst>
            <a:ahLst/>
            <a:rect l="textAreaLeft" t="textAreaTop" r="textAreaRight" b="textAreaBottom"/>
            <a:pathLst>
              <a:path w="49993" h="21600">
                <a:moveTo>
                  <a:pt x="0" y="0"/>
                </a:moveTo>
                <a:lnTo>
                  <a:pt x="49993" y="0"/>
                </a:lnTo>
                <a:lnTo>
                  <a:pt x="49993" y="21600"/>
                </a:lnTo>
                <a:lnTo>
                  <a:pt x="0" y="21600"/>
                </a:lnTo>
                <a:close/>
              </a:path>
              <a:path fill="lightenLess" w="49993" h="21600">
                <a:moveTo>
                  <a:pt x="0" y="0"/>
                </a:moveTo>
                <a:lnTo>
                  <a:pt x="49993" y="0"/>
                </a:lnTo>
                <a:lnTo>
                  <a:pt x="48593" y="1400"/>
                </a:lnTo>
                <a:lnTo>
                  <a:pt x="1400" y="1400"/>
                </a:lnTo>
                <a:close/>
              </a:path>
              <a:path fill="darken" w="49993" h="21600">
                <a:moveTo>
                  <a:pt x="49993" y="0"/>
                </a:moveTo>
                <a:lnTo>
                  <a:pt x="49993" y="21600"/>
                </a:lnTo>
                <a:lnTo>
                  <a:pt x="48593" y="20200"/>
                </a:lnTo>
                <a:lnTo>
                  <a:pt x="48593" y="1400"/>
                </a:lnTo>
                <a:close/>
              </a:path>
              <a:path fill="darkenLess" w="49993" h="21600">
                <a:moveTo>
                  <a:pt x="49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93" y="20200"/>
                </a:lnTo>
                <a:close/>
              </a:path>
              <a:path fill="lighten" w="49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3" action="ppaction://hlinksldjump"/>
              </a:rPr>
              <a:t>Student 5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4" action="ppaction://hlinksldjump"/>
              </a:rPr>
              <a:t>Student 1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7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4876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5" action="ppaction://hlinksldjump"/>
              </a:rPr>
              <a:t>Student 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6" action="ppaction://hlinksldjump"/>
              </a:rPr>
              <a:t>Student 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7" action="ppaction://hlinksldjump"/>
              </a:rPr>
              <a:t>Student 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8" action="ppaction://hlinksldjump"/>
              </a:rPr>
              <a:t>Student 10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9" action="ppaction://hlinksldjump"/>
              </a:rPr>
              <a:t>Student 9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2286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chitect"/>
                <a:hlinkClick r:id="rId11" action="ppaction://hlinksldjump"/>
              </a:rPr>
              <a:t>Student 8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7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6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5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4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3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2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8954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1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1905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20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914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chitect"/>
              </a:rPr>
              <a:t>Student 19</a:t>
            </a: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480" y="228600"/>
            <a:ext cx="58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ol Activi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001000" y="56386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229600" y="58672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0" name=""/>
          <p:cNvSpPr/>
          <p:nvPr/>
        </p:nvSpPr>
        <p:spPr>
          <a:xfrm>
            <a:off x="447984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44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22312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29944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153280" y="5867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848720" y="54864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5038"/>
                </a:moveTo>
                <a:lnTo>
                  <a:pt x="13376" y="7649"/>
                </a:ln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lnTo>
                  <a:pt x="17763" y="12001"/>
                </a:lnTo>
                <a:lnTo>
                  <a:pt x="16109" y="12001"/>
                </a:lnTo>
                <a:lnTo>
                  <a:pt x="16109" y="19191"/>
                </a:lnTo>
                <a:lnTo>
                  <a:pt x="5491" y="19191"/>
                </a:lnTo>
                <a:lnTo>
                  <a:pt x="5491" y="12001"/>
                </a:lnTo>
                <a:lnTo>
                  <a:pt x="3837" y="12001"/>
                </a:lnTo>
                <a:close/>
              </a:path>
              <a:path fill="darkenLess" w="21600" h="24003">
                <a:moveTo>
                  <a:pt x="13376" y="7649"/>
                </a:moveTo>
                <a:lnTo>
                  <a:pt x="13376" y="5909"/>
                </a:lnTo>
                <a:lnTo>
                  <a:pt x="15152" y="5909"/>
                </a:lnTo>
                <a:lnTo>
                  <a:pt x="15152" y="9425"/>
                </a:lnTo>
                <a:close/>
              </a:path>
              <a:path fill="darkenLess" w="21600" h="24003">
                <a:moveTo>
                  <a:pt x="9877" y="15500"/>
                </a:moveTo>
                <a:lnTo>
                  <a:pt x="11723" y="15500"/>
                </a:lnTo>
                <a:lnTo>
                  <a:pt x="11723" y="19191"/>
                </a:lnTo>
                <a:lnTo>
                  <a:pt x="16109" y="19191"/>
                </a:lnTo>
                <a:lnTo>
                  <a:pt x="16109" y="12001"/>
                </a:lnTo>
                <a:lnTo>
                  <a:pt x="5491" y="12001"/>
                </a:lnTo>
                <a:lnTo>
                  <a:pt x="5491" y="19191"/>
                </a:lnTo>
                <a:lnTo>
                  <a:pt x="9877" y="19191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chite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0:57:16Z</dcterms:created>
  <dc:creator>Michelle Johnson</dc:creator>
  <dc:description/>
  <dc:language>en-US</dc:language>
  <cp:lastModifiedBy>Staff</cp:lastModifiedBy>
  <dcterms:modified xsi:type="dcterms:W3CDTF">2003-07-02T12:18:02Z</dcterms:modified>
  <cp:revision>66</cp:revision>
  <dc:subject/>
  <dc:title>No Slide Title</dc:title>
</cp:coreProperties>
</file>